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FD27-EE71-430E-AD76-32CCE8B6A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5126-9E66-4B4C-8076-3AA9C8F8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9A4DF-96FF-4740-8132-1ABA675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2FD8DC-4CCD-43A1-8F72-AE368D59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439C17-B836-4A1B-9B5B-4E375167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5E186F-077D-4906-A708-E100DC41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D1084-BACB-4063-8E1B-E1B7FD50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926F0-BB72-472B-8622-0002F613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6E6B96-4DE0-46DF-81DE-87F9F6C9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2566F7-6B93-46D1-85CE-384636F7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F1E3F5-09F6-4B23-8429-FC8A146DE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612E-632A-4777-9713-AEF2821C1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A153-7196-40B0-85FF-A2634E64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6088-5FD6-45A4-9788-4F9AF62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1722-3DB7-4E87-9053-78430174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0EDA-C3E3-405E-9B53-B8B0535F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E25D-6CAE-404A-A003-0DB07414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1C410-2A81-4961-8FC4-6E37BD50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1ABCC-6E17-42A7-A5C2-27CE9876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77BE-C495-466E-A0CC-E9953D6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C063F-DBD5-4180-8487-8ABA203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D38F0-46AA-4F57-865B-55213B7B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57AE5-63F8-4ABE-B982-53FB8A1C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5F71-A9F5-49FD-9162-1AC7D2579C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0BD7-F3B8-43E3-A8EE-15DC7A899C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CA91AA-5832-4873-A438-A81306D00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0F7B5A-85CE-402D-B23F-6EAF1D9F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DBB44-EFE1-4B82-A900-7168DBAC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35E7D6-CD07-476E-9075-6C7C44AB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AAAAC-4DD3-41BD-9DE1-67363F74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29E56B-FE06-4612-92B5-D1CB4A12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8999EE-A62D-47A3-BFB5-CE89F7C9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2278B-761E-4095-8774-6BC937D1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7B246-FBAB-4268-8C15-43FF2127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E0E0D-7A61-4E60-96A6-7FD4A814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E4638A-D34E-45DD-A1F4-E326910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ECEA99-3BBA-414E-A49E-C0BEBAAB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DA17F-B80C-48C8-ACE7-A29082B09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F0978-55C8-46C0-92E5-B6FAC90BC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D10EC-1AA7-4F6A-B680-757F7322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023EF-B143-4898-8F92-AD145E9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85274-6026-471D-AB2E-4C64A0A6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FF5C8-EA4A-4AF4-B1C2-CA0CB942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FB671-9B75-4866-8AD4-0CD1F3C6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2F50E-FA29-495D-B458-300B762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00321-A537-480E-B6C7-F26A0B81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14BCA-1260-4CA4-A278-F83BFFCA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D77B6-D219-4308-969F-E9B268E6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D9397-FCA4-42E2-8AFF-1CFBAB3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FE635-EF55-45B5-872B-9AA6B9A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18684-F439-43FA-8BE4-D9C9A5EF11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7F53E-2BFF-47A3-BB1B-C6590DE0D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AFAA0-2035-41C9-A9A5-35A806FD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D4CFB-3450-4FA2-A961-7B5EAAD5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87B9D-4B55-4DC7-8793-7CE58A5F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2E7D1-8D56-4876-A15B-A1A4A0E6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999D5-8218-4589-A4E8-4B9969D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B8EBD-D84B-43A6-8786-7634483A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6F027-020B-4F38-BC3C-2DCED442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E2542-72C9-4C99-B357-B065EE28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772E5-703F-4411-8B7A-AD6193E8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4D4D6-12B5-47A6-B4B7-974ED762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8D9F8-3BC7-414D-834B-82A8D030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DE738-49C6-4E45-BF2F-D24D790B44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B3C86-10B1-47A8-9C1C-CA7EBE6C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CCC2B-88B1-4A8A-8465-C6A7D5E2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DC632-0E75-4B4B-B24D-3EA2158F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75E6A-FD28-4D0F-8B00-908F5CD7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A406D-26B6-4B48-80DA-E3F3F742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22D74-FEF2-42B1-8D82-712D5427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47F71-4183-4045-BE64-02DF4C07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DE0C1-8B7F-469A-A250-301970D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06718-E4AD-4DBB-B9FC-6F8ACADB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723A0-D4EE-4448-84EC-0523BFC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454C6-75A1-452F-8BF9-A099927B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AE6B1-B5E1-4460-9B78-9DE293BE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18960-88AD-42D9-A84E-5E6B01FB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F6A29-B370-4B96-BF84-51816BB6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6B760-5187-4F20-AC6C-A457C0ED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09348-3852-4E25-8B7D-72B4450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D777F-6533-4B61-89C0-1D867100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D18C1-A9A0-4C8A-8DFF-05A161B2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9B60A-12C0-46DB-B172-4E71426C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0A578-8035-4E86-9F7F-3E1C507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E82E0-4EBF-40CE-9726-EDF2AE0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C2605-29C0-45B0-A621-6B6B4BC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941B-E98B-4986-8D3A-79C2292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A1A96-70A7-4B2A-9ABD-A355C7BC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5D68F-0692-4815-B61B-70CC457A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95DD1-07B8-47D2-83BB-E6E4E013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37D67-2C06-419B-B530-BC7481C8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4A3AC-B024-45B4-A977-0F80F2A5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2C68C-5D99-40FD-A7A9-F8E27263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858FF-9401-4ED8-BCC6-A697D092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E8AE3-E9E3-4D0A-9472-679EC9EC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1161E-6CC5-4BF5-B268-B0189F02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AA927-5169-42B6-8990-C9C214D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C6967-D5D5-44B3-BA39-86416C5B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7A34C-7FDB-4426-BEE6-D2287BA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69D2F-E87C-4EF8-B3E7-7A73E22A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1E39B-363E-4F6C-92FA-D7CD1F77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364F6-C56A-4831-8E13-3E273934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E064B-42D3-479A-B508-21292309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6CA8C-6873-4177-AD60-474238E6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398FB-62F1-40D5-A21D-DD0C95C7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5FCBE-ABCD-4878-B5EF-02B10E4C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29FB0-2A3C-423E-8409-922999CD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055B6-7775-4796-BAD1-C03B7425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C3D18-3DB8-4E19-8920-C145830E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20D3A-4475-4394-A81D-48D96659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158BC-091C-4082-B470-8ED74AE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759B-D5F8-4130-9CD8-36CD3E91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970E-7A6A-42E0-BE73-F747D52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B9762-2FD8-4827-98B1-917844F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4FE81-B469-4912-B6F3-FE5567B1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B95A4-07FA-49C8-881A-6D51761B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9CFEE-6D65-46EC-A579-BF703209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2DC00-E675-4C13-A9D4-4DFE242D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25FFC-4BB0-4188-A6A6-3E51A7BC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FE4DA-602E-41DC-9C00-76C9EFA4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B4A8E-1425-4D86-880E-EAAB5CE0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EC8E7-A8CA-4C8A-9C2D-8ED471BE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50D0B-DB63-4C5E-B5E3-2BB0863E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AD738-2B2A-4415-AE31-7EE0B05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0C9DC-E7D0-417F-A0EA-49F2134A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7CC06-ED71-4E51-8538-A8BB7EB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1E77C-B7CE-4FCF-B39F-5BB36F3A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3603C-6FBC-4DE9-9B42-04A0374B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96576-D7F4-426D-BA18-A4E0E7F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BFBE5-664E-4110-93C2-E7CF97DE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3664E-7345-4023-8A24-FC2C1E98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80FF1-AE78-4D43-AF43-1F3D992C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4E0C7-4993-466B-8607-6E65D6CB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11134-E4AD-4A40-87D3-8A460F8C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7312D-D5FD-4B6B-86DD-3EF02DC8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CF553-CAB6-4F22-AC7D-09F9249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C01F1-A722-4498-A25B-2AC81715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54F7F-3BA7-4C4A-9777-80749A19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ABD77-3307-4D04-AE2F-FFF795EF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44934-87DA-4810-826C-CB7E78C3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6B544-D396-4896-8D6F-94E560C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C2E7E-D230-4D3A-A2D7-4ECA4335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2E12F-4895-4DFF-B724-30299E0E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EC318-D859-4B38-AF44-3F13E3AE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566C1-40E6-4C93-88C5-E25B760F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AC36C-F7AE-4790-9DE7-8333A671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209E8-61EF-435A-B58E-D763FD69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20BCC-DDF5-45B4-A038-D976848E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DF5B9-91A1-4B84-9B7E-B86883CD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BDEC4-3700-48A4-9E54-F0DFBE18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1FC59-AF4E-4F42-A741-1B163048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1E047-D370-496E-AC2A-5792244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EBD99-8892-4784-9122-9B09562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41F89-C8BE-4733-B5BA-F99B83EC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DD68E-6793-4BD9-8E20-27ED97C8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94085-4EF2-4875-9BAA-E453C8C0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13E1E-0DF9-4A2A-AEC5-67EE1836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E8718-68D5-42FC-A2FA-CEAAC523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117D6-464B-48C8-AA00-3C968B3C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00DB3-E2C9-4777-BAF6-F498ED1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411E6-22A0-4DF3-AD9A-50CC7432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BFB40-6F54-4D4E-B5D7-72372701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FDB78-D148-4B46-A04D-0CADB37A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B55CC-43BE-45E8-9C3F-87EEA629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24E90-88CD-4981-8142-FA320F4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CBD7F-87F0-4333-A45D-A419737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2BC0EF-58B2-4DFF-A42A-BB9D4B3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896B2-2507-4AA9-BF32-05E4BD386A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9444E-E0E2-4786-AFDE-CEBF539A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B4012-18A7-4BD9-B130-01D23CAF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8F364-4163-4C8F-87D1-35CDC678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959ED-76F8-48F1-9E81-5D14E6C1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0702CE-5BC8-4E73-AE83-899F0B0C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DC6DB-87D3-49AF-80CC-B11B9BB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E7F8B-AEAD-424E-BE27-AC600184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88D4B-30E3-4322-8A32-23789CD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C4A5B-1BD4-4531-89D1-D9146BD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0B1FD-5422-46B8-9668-EAC3027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27B49-E916-4E73-94C7-1C0D5A23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4FE80-454F-42DC-BDC9-D738E7B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37284-76A9-4CE0-A85A-B426ACB5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1DD7C-D190-4372-81F0-8F57D19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D81DC-E3BC-4797-86D1-D1703BBB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E1B6E-CC26-433C-80B5-1A1DE933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A99BA-C854-4C97-B886-14D6A48A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98C5DF-09FB-4FEF-B0DD-23A0D9FD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5C64B-3FF2-49BB-AB28-6739CE7A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425B5-F52E-4638-9A7B-0BE66F7E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47A42-04AA-49F4-93A1-10343C0B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245CD-EE95-4F09-94C4-37D59328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096B8-4CD4-45BB-9E58-1CE5BB1B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9A977-E09B-4F86-B8BE-10A1737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4F3E2A-55D5-449F-9A6A-0C30C8B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F4F8D-8AE7-4A06-9014-A35A31F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BC361A-668E-48B1-861F-33F64F75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875840-E9A1-4637-88B1-AFC14F8A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9D05D-BE62-4091-A325-D78E6CA5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EAFD5-42C1-4B8B-B592-5805215F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E318C-C843-4B0B-9506-5C738410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B32C7-0A2B-4A1B-9C41-916EB94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7FAC8-36D9-42FB-B77E-C1AEB28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D195A-38F1-44F6-A2CD-E629B107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54863-30CE-4E47-87CA-34357681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85F45-9DAE-45FE-AE9B-EEC611B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838390-8ACD-4C12-9B78-53119E42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A29D2-1988-4916-A574-6A7A8B9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507CA-3441-478D-BF59-B7211A2B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0EB33-FD3F-4461-88D2-0064C556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1E681-004F-456B-94F6-81B6CCA6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ABF655-FCF7-4E6B-A463-8DBFDB5A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48704-5B8D-4C4B-8A5A-1F0C3E92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2380-17F6-4CFD-9C6A-39078381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DE704-3BCC-4A35-90FD-FAB5451E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52EFD-DE9F-4A5C-B380-2D64AFE4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BB978D-ABFC-4779-A435-F0496928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7C3A7-E2DF-4539-B8B6-E4D631F8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20376-9777-4A31-B562-A5A63F64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182B7-AFFB-4B28-AB30-2708B99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CB7F8-1801-43B2-81FD-A5D13D4D6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5D64-D8D6-4439-8962-0186112FC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6CE9-94BF-49EC-B15F-337BB09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FD71-5BDB-47CF-B26D-6790784E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C59E-D321-4D15-91F1-56EE744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A9FC-C0A7-4D9F-A9E1-36760FB3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99D0-59C8-44BF-ACDB-BA0BC8B9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C604-ED00-4FF4-9969-FA21F00B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35F3-CF32-4FDD-BEFB-0AD02876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9526-E26C-4843-BDE1-52381092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8A93-18B6-4EF1-818D-CCE07FDB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62F5-C96F-4BDD-AE79-E67E855E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69A1-EB5B-46E4-AD34-85546E5B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1875-A6B8-4A29-B33E-E37686DDA4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F66C3-03E3-4356-AD66-A1FF15AB3B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3C9A-AACF-4CA6-AD5A-0B1F33ED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3553F-E487-42D0-9F56-3DD4DE04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65457-08C9-4053-9E73-B38DA3CF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A278C-2623-4265-A9CD-27DEEC66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D2EC9D-3C84-4A6A-BDBB-CA9D56C5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D79B8-2B16-42AF-B8CF-A0050856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DE280-F516-479B-AFDA-59A67E4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06F60-9D6E-45F5-95A1-FFA089F8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C56A5-9E61-49F2-8F93-6BA0F98F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2DD3B-20DE-4EB7-A7FC-3A30D258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F496A-C05D-4754-9D32-D39DA422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42FB-6AE2-40C4-8A3F-65599D64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D3A87-4581-41E4-B2B6-43BD806BA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FFE65-D3A2-4280-A234-749BD3787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34331-CBB5-4BC2-8B7F-E272867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5C7B67-4B0D-4E58-8117-EA790F18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C6ABE3-429C-4820-8353-C88374AF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F9453-71F1-4A41-AC38-D73118FD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8A613B-047E-463A-9D92-01061358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1F046-639C-4E39-8DD1-84925D33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9D53F7-1FB4-4B82-A81B-AB0ED3AC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EDFD8-0E5D-448D-AF88-58457991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59CE-8FB5-4F83-8B8E-DD0A264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8015E8-2581-4470-A857-72313A85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99056A-3C01-4D68-B755-3200F072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75CDE0-9F6D-4E42-929A-DC56362B1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D7B2-3290-40AE-8887-62225E2B9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27269-FF0F-434E-A77F-1FFE0F19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3FEB-25CB-4C7E-B90C-F55CE423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EEB6B-7114-4721-A2CA-5C278E3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57FA-BA54-4022-8E27-EB8B94A7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BB34-C397-4522-BFE4-2F90A746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CA65-0C45-43C8-B627-6C308C18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7547-2178-4B45-AC7B-4F0649C8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373A-6D60-4058-B46C-8BE40E78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298DF-6AD1-49F5-B118-63DC1918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918D-AA82-4EA9-B880-8BA961AA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30D0-92EA-4119-8FC3-51D69F78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8B48-BC56-4CE4-9AAA-D202F147E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25BA5-FDFF-4123-A3E6-EA51EC4AD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E1DC9-86B3-4AB0-B6BA-CDEABD09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FF199-52E8-4C03-A2FC-7959439D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0A6BE-CA9E-482F-8458-5BF6AA68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ED471-7D36-4D39-A768-5EA9BEF3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C427-29FB-4BF3-B141-794DB5B5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F6E07-847D-4B60-92FB-A1B49E78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FAF53-316F-4030-8F10-01A6D994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4EFF8-7D62-4B67-A094-C4B77C85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94A6C-4957-4E37-9B73-997B966C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E2E67-3EA5-4D41-BD1B-613F922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521C3-5E12-48D5-979B-AB1663F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4D38E-28EB-42EC-8269-839D8F57D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FFA330-7604-48AD-B7B2-5420A0E3C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015A2C-186D-4A1B-8E07-0AA62EC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E0693B-2BB4-48E2-9783-34C7D088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B0B9-7B43-4861-AED4-B132A70CE0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F153-548B-4514-9BC5-5492FF9F7F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87CF-403A-44F8-A24A-4675433971E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ECC0-393A-4E39-AD81-BF9D6EA575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0073-48FD-4CF2-B0AD-6E89D74145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972-6CF5-4126-BC85-9824EBF2690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0801-B5BD-4462-B3BE-1029B7D7A8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5B40-391B-43EC-9218-AC7519C0C7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4C4A-27AD-4CB0-9146-5D2AE2EF23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2D4-3CD5-4D0F-8003-96B97F9334B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BB3A-7BDC-4C45-8C78-7941DCCC688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C89D-8A49-49DF-960E-0D29F50633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3DFC-A98C-4EE8-A2AD-DC7BD6009C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A08E-1AE4-4A98-984F-1F69660C47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0823-36CB-43D2-83B6-39D3D29D2F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129D-99B6-49B9-B726-E49967AAB9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12F8-D5E6-4301-A81C-AA53C1A6DFB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21EE-AA0B-449B-AFA5-871181A172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8191-3E33-4BE7-8285-13C5FB145B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17A7-4D0C-40AF-8DEF-EC47A239E3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CE57-5794-46F5-8AA5-5ECE7C6824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FD28-E4DA-4481-88DC-E0987F8777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C6E-41DB-4B30-AC5A-8106AAD67C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573A-DE68-464B-BA09-06A760D0F1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image" Target="../media/image34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1.png"/><Relationship Id="rId29" Type="http://schemas.openxmlformats.org/officeDocument/2006/relationships/image" Target="../media/image36.png"/><Relationship Id="rId30" Type="http://schemas.openxmlformats.org/officeDocument/2006/relationships/image" Target="../media/image34.png"/><Relationship Id="rId31" Type="http://schemas.openxmlformats.org/officeDocument/2006/relationships/image" Target="../media/image34.png"/><Relationship Id="rId32" Type="http://schemas.openxmlformats.org/officeDocument/2006/relationships/image" Target="../media/image34.png"/><Relationship Id="rId3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39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498760" y="2757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 习 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5221080" cy="6120"/>
            <a:chOff x="2284560" y="2448000"/>
            <a:chExt cx="5221080" cy="612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5221080" cy="612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522108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576360" y="173664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~1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2"/>
          <p:cNvGrpSpPr/>
          <p:nvPr/>
        </p:nvGrpSpPr>
        <p:grpSpPr>
          <a:xfrm>
            <a:off x="0" y="155520"/>
            <a:ext cx="2408400" cy="527040"/>
            <a:chOff x="0" y="155520"/>
            <a:chExt cx="2408400" cy="527040"/>
          </a:xfrm>
        </p:grpSpPr>
        <p:pic>
          <p:nvPicPr>
            <p:cNvPr id="9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4400" y="155520"/>
              <a:ext cx="23040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4"/>
            <p:cNvGrpSpPr/>
            <p:nvPr/>
          </p:nvGrpSpPr>
          <p:grpSpPr>
            <a:xfrm>
              <a:off x="0" y="250560"/>
              <a:ext cx="316440" cy="274680"/>
              <a:chOff x="0" y="250560"/>
              <a:chExt cx="316440" cy="274680"/>
            </a:xfrm>
          </p:grpSpPr>
          <p:sp>
            <p:nvSpPr>
              <p:cNvPr id="1000" name="椭圆 11"/>
              <p:cNvSpPr/>
              <p:nvPr/>
            </p:nvSpPr>
            <p:spPr>
              <a:xfrm rot="16200000">
                <a:off x="221040" y="398160"/>
                <a:ext cx="8280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0" y="394200"/>
                <a:ext cx="190080" cy="12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椭圆 29"/>
              <p:cNvSpPr/>
              <p:nvPr/>
            </p:nvSpPr>
            <p:spPr>
              <a:xfrm rot="16200000">
                <a:off x="221040" y="291960"/>
                <a:ext cx="8280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000" y="267120"/>
                <a:ext cx="19008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12560"/>
                <a:ext cx="2484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80880"/>
                <a:ext cx="2484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82240"/>
                <a:ext cx="2484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248400" cy="11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8" name="文本框 4194"/>
          <p:cNvSpPr/>
          <p:nvPr/>
        </p:nvSpPr>
        <p:spPr>
          <a:xfrm>
            <a:off x="832680" y="152280"/>
            <a:ext cx="106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练 习 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矩形 52"/>
          <p:cNvSpPr/>
          <p:nvPr/>
        </p:nvSpPr>
        <p:spPr>
          <a:xfrm>
            <a:off x="952560" y="2400480"/>
            <a:ext cx="503280" cy="504720"/>
          </a:xfrm>
          <a:prstGeom prst="rect">
            <a:avLst/>
          </a:prstGeom>
          <a:solidFill>
            <a:srgbClr val="ffff0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53"/>
          <p:cNvSpPr/>
          <p:nvPr/>
        </p:nvSpPr>
        <p:spPr>
          <a:xfrm>
            <a:off x="1800360" y="2400480"/>
            <a:ext cx="503280" cy="504720"/>
          </a:xfrm>
          <a:prstGeom prst="rect">
            <a:avLst/>
          </a:prstGeom>
          <a:solidFill>
            <a:srgbClr val="92d05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54"/>
          <p:cNvSpPr/>
          <p:nvPr/>
        </p:nvSpPr>
        <p:spPr>
          <a:xfrm>
            <a:off x="2647800" y="2400480"/>
            <a:ext cx="503280" cy="504720"/>
          </a:xfrm>
          <a:prstGeom prst="rect">
            <a:avLst/>
          </a:prstGeom>
          <a:solidFill>
            <a:srgbClr val="00b0f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55"/>
          <p:cNvSpPr/>
          <p:nvPr/>
        </p:nvSpPr>
        <p:spPr>
          <a:xfrm>
            <a:off x="3495600" y="2400480"/>
            <a:ext cx="503280" cy="504720"/>
          </a:xfrm>
          <a:prstGeom prst="rect">
            <a:avLst/>
          </a:prstGeom>
          <a:solidFill>
            <a:srgbClr val="00b05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56"/>
          <p:cNvSpPr/>
          <p:nvPr/>
        </p:nvSpPr>
        <p:spPr>
          <a:xfrm>
            <a:off x="4343400" y="2400480"/>
            <a:ext cx="503280" cy="504720"/>
          </a:xfrm>
          <a:prstGeom prst="rect">
            <a:avLst/>
          </a:prstGeom>
          <a:solidFill>
            <a:srgbClr val="cc81f4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57"/>
          <p:cNvSpPr/>
          <p:nvPr/>
        </p:nvSpPr>
        <p:spPr>
          <a:xfrm>
            <a:off x="5191200" y="2400480"/>
            <a:ext cx="503280" cy="504720"/>
          </a:xfrm>
          <a:prstGeom prst="rect">
            <a:avLst/>
          </a:prstGeom>
          <a:solidFill>
            <a:srgbClr val="fbe8a3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58"/>
          <p:cNvSpPr/>
          <p:nvPr/>
        </p:nvSpPr>
        <p:spPr>
          <a:xfrm>
            <a:off x="6039000" y="2400480"/>
            <a:ext cx="502920" cy="504720"/>
          </a:xfrm>
          <a:prstGeom prst="rect">
            <a:avLst/>
          </a:prstGeom>
          <a:solidFill>
            <a:srgbClr val="a4fab3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9"/>
          <p:cNvSpPr/>
          <p:nvPr/>
        </p:nvSpPr>
        <p:spPr>
          <a:xfrm>
            <a:off x="6886440" y="2400480"/>
            <a:ext cx="503280" cy="504720"/>
          </a:xfrm>
          <a:prstGeom prst="rect">
            <a:avLst/>
          </a:prstGeom>
          <a:solidFill>
            <a:srgbClr val="f5aaca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60"/>
          <p:cNvSpPr/>
          <p:nvPr/>
        </p:nvSpPr>
        <p:spPr>
          <a:xfrm>
            <a:off x="7734240" y="2400480"/>
            <a:ext cx="503280" cy="504720"/>
          </a:xfrm>
          <a:prstGeom prst="rect">
            <a:avLst/>
          </a:prstGeom>
          <a:solidFill>
            <a:srgbClr val="a0f9fe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61"/>
          <p:cNvSpPr/>
          <p:nvPr/>
        </p:nvSpPr>
        <p:spPr>
          <a:xfrm>
            <a:off x="949320" y="3432240"/>
            <a:ext cx="504720" cy="504720"/>
          </a:xfrm>
          <a:prstGeom prst="rect">
            <a:avLst/>
          </a:prstGeom>
          <a:solidFill>
            <a:srgbClr val="ffff0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62"/>
          <p:cNvSpPr/>
          <p:nvPr/>
        </p:nvSpPr>
        <p:spPr>
          <a:xfrm>
            <a:off x="1797120" y="3432240"/>
            <a:ext cx="504720" cy="504720"/>
          </a:xfrm>
          <a:prstGeom prst="rect">
            <a:avLst/>
          </a:prstGeom>
          <a:solidFill>
            <a:srgbClr val="92d05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65"/>
          <p:cNvSpPr/>
          <p:nvPr/>
        </p:nvSpPr>
        <p:spPr>
          <a:xfrm>
            <a:off x="2644920" y="3432240"/>
            <a:ext cx="504720" cy="504720"/>
          </a:xfrm>
          <a:prstGeom prst="rect">
            <a:avLst/>
          </a:prstGeom>
          <a:solidFill>
            <a:srgbClr val="00b0f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68"/>
          <p:cNvSpPr/>
          <p:nvPr/>
        </p:nvSpPr>
        <p:spPr>
          <a:xfrm>
            <a:off x="3492360" y="3432240"/>
            <a:ext cx="505080" cy="504720"/>
          </a:xfrm>
          <a:prstGeom prst="rect">
            <a:avLst/>
          </a:prstGeom>
          <a:solidFill>
            <a:srgbClr val="00b05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71"/>
          <p:cNvSpPr/>
          <p:nvPr/>
        </p:nvSpPr>
        <p:spPr>
          <a:xfrm>
            <a:off x="4340160" y="3432240"/>
            <a:ext cx="504720" cy="504720"/>
          </a:xfrm>
          <a:prstGeom prst="rect">
            <a:avLst/>
          </a:prstGeom>
          <a:solidFill>
            <a:srgbClr val="cc81f4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74"/>
          <p:cNvSpPr/>
          <p:nvPr/>
        </p:nvSpPr>
        <p:spPr>
          <a:xfrm>
            <a:off x="5191200" y="3432240"/>
            <a:ext cx="503280" cy="504720"/>
          </a:xfrm>
          <a:prstGeom prst="rect">
            <a:avLst/>
          </a:prstGeom>
          <a:solidFill>
            <a:srgbClr val="fbe8a3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77"/>
          <p:cNvSpPr/>
          <p:nvPr/>
        </p:nvSpPr>
        <p:spPr>
          <a:xfrm>
            <a:off x="6035760" y="3432240"/>
            <a:ext cx="504720" cy="504720"/>
          </a:xfrm>
          <a:prstGeom prst="rect">
            <a:avLst/>
          </a:prstGeom>
          <a:solidFill>
            <a:srgbClr val="a4fab3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80"/>
          <p:cNvSpPr/>
          <p:nvPr/>
        </p:nvSpPr>
        <p:spPr>
          <a:xfrm>
            <a:off x="6883560" y="3432240"/>
            <a:ext cx="504720" cy="504720"/>
          </a:xfrm>
          <a:prstGeom prst="rect">
            <a:avLst/>
          </a:prstGeom>
          <a:solidFill>
            <a:srgbClr val="f5aaca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3"/>
          <p:cNvSpPr/>
          <p:nvPr/>
        </p:nvSpPr>
        <p:spPr>
          <a:xfrm>
            <a:off x="7731000" y="3432240"/>
            <a:ext cx="505080" cy="504720"/>
          </a:xfrm>
          <a:prstGeom prst="rect">
            <a:avLst/>
          </a:prstGeom>
          <a:solidFill>
            <a:srgbClr val="a0f9fe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矩形 89" descr=""/>
          <p:cNvPicPr/>
          <p:nvPr/>
        </p:nvPicPr>
        <p:blipFill>
          <a:blip r:embed="rId8"/>
          <a:stretch/>
        </p:blipFill>
        <p:spPr>
          <a:xfrm>
            <a:off x="635040" y="1438200"/>
            <a:ext cx="816912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2"/>
          <p:cNvGrpSpPr/>
          <p:nvPr/>
        </p:nvGrpSpPr>
        <p:grpSpPr>
          <a:xfrm>
            <a:off x="9360" y="141120"/>
            <a:ext cx="2125800" cy="527040"/>
            <a:chOff x="9360" y="141120"/>
            <a:chExt cx="2125800" cy="527040"/>
          </a:xfrm>
        </p:grpSpPr>
        <p:pic>
          <p:nvPicPr>
            <p:cNvPr id="102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98280" y="141120"/>
              <a:ext cx="20368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0" name="组合 4"/>
            <p:cNvGrpSpPr/>
            <p:nvPr/>
          </p:nvGrpSpPr>
          <p:grpSpPr>
            <a:xfrm>
              <a:off x="9360" y="236160"/>
              <a:ext cx="278280" cy="274680"/>
              <a:chOff x="9360" y="236160"/>
              <a:chExt cx="278280" cy="274680"/>
            </a:xfrm>
          </p:grpSpPr>
          <p:sp>
            <p:nvSpPr>
              <p:cNvPr id="1031" name="椭圆 11"/>
              <p:cNvSpPr/>
              <p:nvPr/>
            </p:nvSpPr>
            <p:spPr>
              <a:xfrm rot="16200000">
                <a:off x="203400" y="372240"/>
                <a:ext cx="7308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99360" y="379800"/>
                <a:ext cx="167400" cy="12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3" name="椭圆 29"/>
              <p:cNvSpPr/>
              <p:nvPr/>
            </p:nvSpPr>
            <p:spPr>
              <a:xfrm rot="16200000">
                <a:off x="203400" y="278640"/>
                <a:ext cx="7308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99360" y="252720"/>
                <a:ext cx="16740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60" y="398160"/>
                <a:ext cx="1972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60" y="366480"/>
                <a:ext cx="1972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9360" y="267840"/>
                <a:ext cx="1972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9360" y="236160"/>
                <a:ext cx="197280" cy="11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39" name="矩形 1" descr=""/>
          <p:cNvPicPr/>
          <p:nvPr/>
        </p:nvPicPr>
        <p:blipFill>
          <a:blip r:embed="rId8"/>
          <a:stretch/>
        </p:blipFill>
        <p:spPr>
          <a:xfrm>
            <a:off x="396720" y="812880"/>
            <a:ext cx="3264120" cy="579240"/>
          </a:xfrm>
          <a:prstGeom prst="rect">
            <a:avLst/>
          </a:prstGeom>
          <a:ln w="0">
            <a:noFill/>
          </a:ln>
        </p:spPr>
      </p:pic>
      <p:pic>
        <p:nvPicPr>
          <p:cNvPr id="1040" name="直接连接符 9" descr=""/>
          <p:cNvPicPr/>
          <p:nvPr/>
        </p:nvPicPr>
        <p:blipFill>
          <a:blip r:embed="rId9"/>
          <a:stretch/>
        </p:blipFill>
        <p:spPr>
          <a:xfrm>
            <a:off x="2178000" y="3033720"/>
            <a:ext cx="649440" cy="676440"/>
          </a:xfrm>
          <a:prstGeom prst="rect">
            <a:avLst/>
          </a:prstGeom>
          <a:ln w="0">
            <a:noFill/>
          </a:ln>
        </p:spPr>
      </p:pic>
      <p:pic>
        <p:nvPicPr>
          <p:cNvPr id="1041" name="直接连接符 4" descr=""/>
          <p:cNvPicPr/>
          <p:nvPr/>
        </p:nvPicPr>
        <p:blipFill>
          <a:blip r:embed="rId10"/>
          <a:stretch/>
        </p:blipFill>
        <p:spPr>
          <a:xfrm>
            <a:off x="585720" y="2467080"/>
            <a:ext cx="3348000" cy="28440"/>
          </a:xfrm>
          <a:prstGeom prst="rect">
            <a:avLst/>
          </a:prstGeom>
          <a:ln w="0">
            <a:noFill/>
          </a:ln>
        </p:spPr>
      </p:pic>
      <p:pic>
        <p:nvPicPr>
          <p:cNvPr id="1042" name="直接连接符 6" descr=""/>
          <p:cNvPicPr/>
          <p:nvPr/>
        </p:nvPicPr>
        <p:blipFill>
          <a:blip r:embed="rId11"/>
          <a:stretch/>
        </p:blipFill>
        <p:spPr>
          <a:xfrm>
            <a:off x="1573200" y="3025800"/>
            <a:ext cx="633600" cy="684360"/>
          </a:xfrm>
          <a:prstGeom prst="rect">
            <a:avLst/>
          </a:prstGeom>
          <a:ln w="0">
            <a:noFill/>
          </a:ln>
        </p:spPr>
      </p:pic>
      <p:sp>
        <p:nvSpPr>
          <p:cNvPr id="1043" name="矩形 7"/>
          <p:cNvSpPr/>
          <p:nvPr/>
        </p:nvSpPr>
        <p:spPr>
          <a:xfrm>
            <a:off x="1405080" y="2603520"/>
            <a:ext cx="431640" cy="431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2608200" y="2603520"/>
            <a:ext cx="432000" cy="431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0"/>
          <p:cNvSpPr/>
          <p:nvPr/>
        </p:nvSpPr>
        <p:spPr>
          <a:xfrm>
            <a:off x="1976400" y="3701880"/>
            <a:ext cx="432000" cy="43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直接连接符 15" descr=""/>
          <p:cNvPicPr/>
          <p:nvPr/>
        </p:nvPicPr>
        <p:blipFill>
          <a:blip r:embed="rId12"/>
          <a:stretch/>
        </p:blipFill>
        <p:spPr>
          <a:xfrm>
            <a:off x="6761160" y="3033720"/>
            <a:ext cx="649440" cy="676440"/>
          </a:xfrm>
          <a:prstGeom prst="rect">
            <a:avLst/>
          </a:prstGeom>
          <a:ln w="0">
            <a:noFill/>
          </a:ln>
        </p:spPr>
      </p:pic>
      <p:pic>
        <p:nvPicPr>
          <p:cNvPr id="1047" name="直接连接符 16" descr=""/>
          <p:cNvPicPr/>
          <p:nvPr/>
        </p:nvPicPr>
        <p:blipFill>
          <a:blip r:embed="rId13"/>
          <a:stretch/>
        </p:blipFill>
        <p:spPr>
          <a:xfrm>
            <a:off x="5099040" y="2467080"/>
            <a:ext cx="3346560" cy="28440"/>
          </a:xfrm>
          <a:prstGeom prst="rect">
            <a:avLst/>
          </a:prstGeom>
          <a:ln w="0">
            <a:noFill/>
          </a:ln>
        </p:spPr>
      </p:pic>
      <p:pic>
        <p:nvPicPr>
          <p:cNvPr id="1048" name="直接连接符 17" descr=""/>
          <p:cNvPicPr/>
          <p:nvPr/>
        </p:nvPicPr>
        <p:blipFill>
          <a:blip r:embed="rId14"/>
          <a:stretch/>
        </p:blipFill>
        <p:spPr>
          <a:xfrm>
            <a:off x="6157800" y="3025800"/>
            <a:ext cx="633600" cy="684360"/>
          </a:xfrm>
          <a:prstGeom prst="rect">
            <a:avLst/>
          </a:prstGeom>
          <a:ln w="0">
            <a:noFill/>
          </a:ln>
        </p:spPr>
      </p:pic>
      <p:sp>
        <p:nvSpPr>
          <p:cNvPr id="1049" name="矩形 18"/>
          <p:cNvSpPr/>
          <p:nvPr/>
        </p:nvSpPr>
        <p:spPr>
          <a:xfrm>
            <a:off x="5989680" y="2603520"/>
            <a:ext cx="431640" cy="431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9"/>
          <p:cNvSpPr/>
          <p:nvPr/>
        </p:nvSpPr>
        <p:spPr>
          <a:xfrm>
            <a:off x="7192800" y="2603520"/>
            <a:ext cx="432000" cy="431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20"/>
          <p:cNvSpPr/>
          <p:nvPr/>
        </p:nvSpPr>
        <p:spPr>
          <a:xfrm>
            <a:off x="6561000" y="3701880"/>
            <a:ext cx="432000" cy="43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21"/>
          <p:cNvSpPr/>
          <p:nvPr/>
        </p:nvSpPr>
        <p:spPr>
          <a:xfrm>
            <a:off x="1892160" y="366552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22"/>
          <p:cNvSpPr/>
          <p:nvPr/>
        </p:nvSpPr>
        <p:spPr>
          <a:xfrm>
            <a:off x="6478560" y="363528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39"/>
          <p:cNvGrpSpPr/>
          <p:nvPr/>
        </p:nvGrpSpPr>
        <p:grpSpPr>
          <a:xfrm>
            <a:off x="674640" y="2163600"/>
            <a:ext cx="1249200" cy="287640"/>
            <a:chOff x="674640" y="2163600"/>
            <a:chExt cx="1249200" cy="287640"/>
          </a:xfrm>
        </p:grpSpPr>
        <p:sp>
          <p:nvSpPr>
            <p:cNvPr id="1055" name="椭圆 23"/>
            <p:cNvSpPr/>
            <p:nvPr/>
          </p:nvSpPr>
          <p:spPr>
            <a:xfrm>
              <a:off x="674640" y="2163600"/>
              <a:ext cx="288360" cy="287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椭圆 24"/>
            <p:cNvSpPr/>
            <p:nvPr/>
          </p:nvSpPr>
          <p:spPr>
            <a:xfrm>
              <a:off x="994680" y="2163600"/>
              <a:ext cx="288360" cy="287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椭圆 25"/>
            <p:cNvSpPr/>
            <p:nvPr/>
          </p:nvSpPr>
          <p:spPr>
            <a:xfrm>
              <a:off x="1315440" y="2163600"/>
              <a:ext cx="288360" cy="287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椭圆 26"/>
            <p:cNvSpPr/>
            <p:nvPr/>
          </p:nvSpPr>
          <p:spPr>
            <a:xfrm>
              <a:off x="1635480" y="2163600"/>
              <a:ext cx="288360" cy="287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组合 53"/>
          <p:cNvGrpSpPr/>
          <p:nvPr/>
        </p:nvGrpSpPr>
        <p:grpSpPr>
          <a:xfrm>
            <a:off x="1955880" y="2163600"/>
            <a:ext cx="1887480" cy="287640"/>
            <a:chOff x="1955880" y="2163600"/>
            <a:chExt cx="1887480" cy="287640"/>
          </a:xfrm>
        </p:grpSpPr>
        <p:sp>
          <p:nvSpPr>
            <p:cNvPr id="1060" name="椭圆 27"/>
            <p:cNvSpPr/>
            <p:nvPr/>
          </p:nvSpPr>
          <p:spPr>
            <a:xfrm>
              <a:off x="1955880" y="2163600"/>
              <a:ext cx="288000" cy="28764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椭圆 28"/>
            <p:cNvSpPr/>
            <p:nvPr/>
          </p:nvSpPr>
          <p:spPr>
            <a:xfrm>
              <a:off x="2275560" y="2163600"/>
              <a:ext cx="288000" cy="28764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椭圆 35"/>
            <p:cNvSpPr/>
            <p:nvPr/>
          </p:nvSpPr>
          <p:spPr>
            <a:xfrm>
              <a:off x="2595600" y="2163600"/>
              <a:ext cx="288000" cy="28764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椭圆 36"/>
            <p:cNvSpPr/>
            <p:nvPr/>
          </p:nvSpPr>
          <p:spPr>
            <a:xfrm>
              <a:off x="2915280" y="2163600"/>
              <a:ext cx="288000" cy="28764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37"/>
            <p:cNvSpPr/>
            <p:nvPr/>
          </p:nvSpPr>
          <p:spPr>
            <a:xfrm>
              <a:off x="3235320" y="2163600"/>
              <a:ext cx="288000" cy="28764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38"/>
            <p:cNvSpPr/>
            <p:nvPr/>
          </p:nvSpPr>
          <p:spPr>
            <a:xfrm>
              <a:off x="3555360" y="2163600"/>
              <a:ext cx="288000" cy="28764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等腰三角形 40"/>
          <p:cNvSpPr/>
          <p:nvPr/>
        </p:nvSpPr>
        <p:spPr>
          <a:xfrm>
            <a:off x="5132520" y="215424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等腰三角形 41"/>
          <p:cNvSpPr/>
          <p:nvPr/>
        </p:nvSpPr>
        <p:spPr>
          <a:xfrm>
            <a:off x="5468760" y="2154240"/>
            <a:ext cx="287640" cy="287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等腰三角形 42"/>
          <p:cNvSpPr/>
          <p:nvPr/>
        </p:nvSpPr>
        <p:spPr>
          <a:xfrm>
            <a:off x="5803920" y="2154240"/>
            <a:ext cx="289080" cy="287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等腰三角形 43"/>
          <p:cNvSpPr/>
          <p:nvPr/>
        </p:nvSpPr>
        <p:spPr>
          <a:xfrm>
            <a:off x="6140520" y="215424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等腰三角形 44"/>
          <p:cNvSpPr/>
          <p:nvPr/>
        </p:nvSpPr>
        <p:spPr>
          <a:xfrm>
            <a:off x="6477120" y="215424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等腰三角形 45"/>
          <p:cNvSpPr/>
          <p:nvPr/>
        </p:nvSpPr>
        <p:spPr>
          <a:xfrm>
            <a:off x="6811920" y="215424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等腰三角形 46"/>
          <p:cNvSpPr/>
          <p:nvPr/>
        </p:nvSpPr>
        <p:spPr>
          <a:xfrm>
            <a:off x="7148520" y="215424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组合 52"/>
          <p:cNvGrpSpPr/>
          <p:nvPr/>
        </p:nvGrpSpPr>
        <p:grpSpPr>
          <a:xfrm>
            <a:off x="7483320" y="2154240"/>
            <a:ext cx="959040" cy="287280"/>
            <a:chOff x="7483320" y="2154240"/>
            <a:chExt cx="959040" cy="287280"/>
          </a:xfrm>
        </p:grpSpPr>
        <p:sp>
          <p:nvSpPr>
            <p:cNvPr id="1074" name="等腰三角形 47"/>
            <p:cNvSpPr/>
            <p:nvPr/>
          </p:nvSpPr>
          <p:spPr>
            <a:xfrm>
              <a:off x="7483320" y="2154240"/>
              <a:ext cx="287640" cy="2872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等腰三角形 48"/>
            <p:cNvSpPr/>
            <p:nvPr/>
          </p:nvSpPr>
          <p:spPr>
            <a:xfrm>
              <a:off x="7818840" y="2154240"/>
              <a:ext cx="287280" cy="2872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等腰三角形 50"/>
            <p:cNvSpPr/>
            <p:nvPr/>
          </p:nvSpPr>
          <p:spPr>
            <a:xfrm>
              <a:off x="8154720" y="2154240"/>
              <a:ext cx="287640" cy="2872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2"/>
          <p:cNvGrpSpPr/>
          <p:nvPr/>
        </p:nvGrpSpPr>
        <p:grpSpPr>
          <a:xfrm>
            <a:off x="9360" y="108000"/>
            <a:ext cx="3245040" cy="527040"/>
            <a:chOff x="9360" y="108000"/>
            <a:chExt cx="3245040" cy="527040"/>
          </a:xfrm>
        </p:grpSpPr>
        <p:pic>
          <p:nvPicPr>
            <p:cNvPr id="107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9840" y="108000"/>
              <a:ext cx="3094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9360" y="203040"/>
              <a:ext cx="430200" cy="274680"/>
              <a:chOff x="9360" y="203040"/>
              <a:chExt cx="430200" cy="274680"/>
            </a:xfrm>
          </p:grpSpPr>
          <p:sp>
            <p:nvSpPr>
              <p:cNvPr id="1080" name="椭圆 11"/>
              <p:cNvSpPr/>
              <p:nvPr/>
            </p:nvSpPr>
            <p:spPr>
              <a:xfrm rot="16200000">
                <a:off x="252720" y="36792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520" y="33120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29"/>
              <p:cNvSpPr/>
              <p:nvPr/>
            </p:nvSpPr>
            <p:spPr>
              <a:xfrm rot="16200000">
                <a:off x="252720" y="2408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520" y="21780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60" y="34740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60" y="31896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9360" y="23112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9360" y="20304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88" name="矩形 3" descr=""/>
          <p:cNvPicPr/>
          <p:nvPr/>
        </p:nvPicPr>
        <p:blipFill>
          <a:blip r:embed="rId8"/>
          <a:stretch/>
        </p:blipFill>
        <p:spPr>
          <a:xfrm>
            <a:off x="396720" y="812880"/>
            <a:ext cx="3264120" cy="579240"/>
          </a:xfrm>
          <a:prstGeom prst="rect">
            <a:avLst/>
          </a:prstGeom>
          <a:ln w="0">
            <a:noFill/>
          </a:ln>
        </p:spPr>
      </p:pic>
      <p:pic>
        <p:nvPicPr>
          <p:cNvPr id="1089" name="椭圆 6" descr=""/>
          <p:cNvPicPr/>
          <p:nvPr/>
        </p:nvPicPr>
        <p:blipFill>
          <a:blip r:embed="rId9"/>
          <a:stretch/>
        </p:blipFill>
        <p:spPr>
          <a:xfrm>
            <a:off x="593640" y="171936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1090" name="椭圆 7" descr=""/>
          <p:cNvPicPr/>
          <p:nvPr/>
        </p:nvPicPr>
        <p:blipFill>
          <a:blip r:embed="rId10"/>
          <a:stretch/>
        </p:blipFill>
        <p:spPr>
          <a:xfrm>
            <a:off x="1123920" y="17193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091" name="椭圆 8" descr=""/>
          <p:cNvPicPr/>
          <p:nvPr/>
        </p:nvPicPr>
        <p:blipFill>
          <a:blip r:embed="rId11"/>
          <a:stretch/>
        </p:blipFill>
        <p:spPr>
          <a:xfrm>
            <a:off x="1654200" y="17193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092" name="椭圆 9" descr=""/>
          <p:cNvPicPr/>
          <p:nvPr/>
        </p:nvPicPr>
        <p:blipFill>
          <a:blip r:embed="rId12"/>
          <a:stretch/>
        </p:blipFill>
        <p:spPr>
          <a:xfrm>
            <a:off x="2182680" y="1719360"/>
            <a:ext cx="430200" cy="428400"/>
          </a:xfrm>
          <a:prstGeom prst="rect">
            <a:avLst/>
          </a:prstGeom>
          <a:ln w="0">
            <a:noFill/>
          </a:ln>
        </p:spPr>
      </p:pic>
      <p:pic>
        <p:nvPicPr>
          <p:cNvPr id="1093" name="椭圆 10" descr=""/>
          <p:cNvPicPr/>
          <p:nvPr/>
        </p:nvPicPr>
        <p:blipFill>
          <a:blip r:embed="rId13"/>
          <a:stretch/>
        </p:blipFill>
        <p:spPr>
          <a:xfrm>
            <a:off x="2712960" y="17193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094" name="椭圆 12" descr=""/>
          <p:cNvPicPr/>
          <p:nvPr/>
        </p:nvPicPr>
        <p:blipFill>
          <a:blip r:embed="rId14"/>
          <a:stretch/>
        </p:blipFill>
        <p:spPr>
          <a:xfrm>
            <a:off x="3241800" y="1719360"/>
            <a:ext cx="430200" cy="428400"/>
          </a:xfrm>
          <a:prstGeom prst="rect">
            <a:avLst/>
          </a:prstGeom>
          <a:ln w="0">
            <a:noFill/>
          </a:ln>
        </p:spPr>
      </p:pic>
      <p:pic>
        <p:nvPicPr>
          <p:cNvPr id="1095" name="椭圆 14" descr=""/>
          <p:cNvPicPr/>
          <p:nvPr/>
        </p:nvPicPr>
        <p:blipFill>
          <a:blip r:embed="rId15"/>
          <a:stretch/>
        </p:blipFill>
        <p:spPr>
          <a:xfrm>
            <a:off x="3772080" y="171936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1096" name="椭圆 15" descr=""/>
          <p:cNvPicPr/>
          <p:nvPr/>
        </p:nvPicPr>
        <p:blipFill>
          <a:blip r:embed="rId16"/>
          <a:stretch/>
        </p:blipFill>
        <p:spPr>
          <a:xfrm>
            <a:off x="4302000" y="17193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097" name="矩形 17" descr=""/>
          <p:cNvPicPr/>
          <p:nvPr/>
        </p:nvPicPr>
        <p:blipFill>
          <a:blip r:embed="rId17"/>
          <a:stretch/>
        </p:blipFill>
        <p:spPr>
          <a:xfrm>
            <a:off x="608040" y="244800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1098" name="矩形 20" descr=""/>
          <p:cNvPicPr/>
          <p:nvPr/>
        </p:nvPicPr>
        <p:blipFill>
          <a:blip r:embed="rId18"/>
          <a:stretch/>
        </p:blipFill>
        <p:spPr>
          <a:xfrm>
            <a:off x="1136520" y="244800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1099" name="矩形 21" descr=""/>
          <p:cNvPicPr/>
          <p:nvPr/>
        </p:nvPicPr>
        <p:blipFill>
          <a:blip r:embed="rId19"/>
          <a:stretch/>
        </p:blipFill>
        <p:spPr>
          <a:xfrm>
            <a:off x="1666800" y="2448000"/>
            <a:ext cx="384120" cy="385560"/>
          </a:xfrm>
          <a:prstGeom prst="rect">
            <a:avLst/>
          </a:prstGeom>
          <a:ln w="0">
            <a:noFill/>
          </a:ln>
        </p:spPr>
      </p:pic>
      <p:pic>
        <p:nvPicPr>
          <p:cNvPr id="1100" name="矩形 22" descr=""/>
          <p:cNvPicPr/>
          <p:nvPr/>
        </p:nvPicPr>
        <p:blipFill>
          <a:blip r:embed="rId20"/>
          <a:stretch/>
        </p:blipFill>
        <p:spPr>
          <a:xfrm>
            <a:off x="2193840" y="244800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1101" name="矩形 23" descr=""/>
          <p:cNvPicPr/>
          <p:nvPr/>
        </p:nvPicPr>
        <p:blipFill>
          <a:blip r:embed="rId21"/>
          <a:stretch/>
        </p:blipFill>
        <p:spPr>
          <a:xfrm>
            <a:off x="2724120" y="244800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1102" name="矩形 27" descr=""/>
          <p:cNvPicPr/>
          <p:nvPr/>
        </p:nvPicPr>
        <p:blipFill>
          <a:blip r:embed="rId22"/>
          <a:stretch/>
        </p:blipFill>
        <p:spPr>
          <a:xfrm>
            <a:off x="3252960" y="244800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1103" name="矩形 36" descr=""/>
          <p:cNvPicPr/>
          <p:nvPr/>
        </p:nvPicPr>
        <p:blipFill>
          <a:blip r:embed="rId23"/>
          <a:stretch/>
        </p:blipFill>
        <p:spPr>
          <a:xfrm>
            <a:off x="3794040" y="244800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1104" name="矩形 37" descr=""/>
          <p:cNvPicPr/>
          <p:nvPr/>
        </p:nvPicPr>
        <p:blipFill>
          <a:blip r:embed="rId24"/>
          <a:stretch/>
        </p:blipFill>
        <p:spPr>
          <a:xfrm>
            <a:off x="4311720" y="2448000"/>
            <a:ext cx="384120" cy="385560"/>
          </a:xfrm>
          <a:prstGeom prst="rect">
            <a:avLst/>
          </a:prstGeom>
          <a:ln w="0">
            <a:noFill/>
          </a:ln>
        </p:spPr>
      </p:pic>
      <p:pic>
        <p:nvPicPr>
          <p:cNvPr id="1105" name="矩形 40" descr=""/>
          <p:cNvPicPr/>
          <p:nvPr/>
        </p:nvPicPr>
        <p:blipFill>
          <a:blip r:embed="rId25"/>
          <a:stretch/>
        </p:blipFill>
        <p:spPr>
          <a:xfrm>
            <a:off x="4838760" y="244800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1106" name="矩形 41" descr=""/>
          <p:cNvPicPr/>
          <p:nvPr/>
        </p:nvPicPr>
        <p:blipFill>
          <a:blip r:embed="rId26"/>
          <a:stretch/>
        </p:blipFill>
        <p:spPr>
          <a:xfrm>
            <a:off x="5369040" y="2448000"/>
            <a:ext cx="385560" cy="385560"/>
          </a:xfrm>
          <a:prstGeom prst="rect">
            <a:avLst/>
          </a:prstGeom>
          <a:ln w="0">
            <a:noFill/>
          </a:ln>
        </p:spPr>
      </p:pic>
      <p:sp>
        <p:nvSpPr>
          <p:cNvPr id="1107" name="文本框 43"/>
          <p:cNvSpPr/>
          <p:nvPr/>
        </p:nvSpPr>
        <p:spPr>
          <a:xfrm>
            <a:off x="368280" y="3087720"/>
            <a:ext cx="80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（      ）个，         有（       ）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44"/>
          <p:cNvSpPr/>
          <p:nvPr/>
        </p:nvSpPr>
        <p:spPr>
          <a:xfrm>
            <a:off x="358920" y="3860640"/>
            <a:ext cx="803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比        少 （       ）个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比        多 （       ）个  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椭圆 45" descr=""/>
          <p:cNvPicPr/>
          <p:nvPr/>
        </p:nvPicPr>
        <p:blipFill>
          <a:blip r:embed="rId27"/>
          <a:stretch/>
        </p:blipFill>
        <p:spPr>
          <a:xfrm>
            <a:off x="1054080" y="313704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1110" name="椭圆 46" descr=""/>
          <p:cNvPicPr/>
          <p:nvPr/>
        </p:nvPicPr>
        <p:blipFill>
          <a:blip r:embed="rId28"/>
          <a:stretch/>
        </p:blipFill>
        <p:spPr>
          <a:xfrm>
            <a:off x="1054080" y="390996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1111" name="椭圆 47" descr=""/>
          <p:cNvPicPr/>
          <p:nvPr/>
        </p:nvPicPr>
        <p:blipFill>
          <a:blip r:embed="rId29"/>
          <a:stretch/>
        </p:blipFill>
        <p:spPr>
          <a:xfrm>
            <a:off x="2233440" y="4762440"/>
            <a:ext cx="430560" cy="430200"/>
          </a:xfrm>
          <a:prstGeom prst="rect">
            <a:avLst/>
          </a:prstGeom>
          <a:ln w="0">
            <a:noFill/>
          </a:ln>
        </p:spPr>
      </p:pic>
      <p:pic>
        <p:nvPicPr>
          <p:cNvPr id="1112" name="矩形 49" descr=""/>
          <p:cNvPicPr/>
          <p:nvPr/>
        </p:nvPicPr>
        <p:blipFill>
          <a:blip r:embed="rId30"/>
          <a:stretch/>
        </p:blipFill>
        <p:spPr>
          <a:xfrm>
            <a:off x="4362480" y="3149640"/>
            <a:ext cx="384120" cy="385560"/>
          </a:xfrm>
          <a:prstGeom prst="rect">
            <a:avLst/>
          </a:prstGeom>
          <a:ln w="0">
            <a:noFill/>
          </a:ln>
        </p:spPr>
      </p:pic>
      <p:pic>
        <p:nvPicPr>
          <p:cNvPr id="1113" name="矩形 50" descr=""/>
          <p:cNvPicPr/>
          <p:nvPr/>
        </p:nvPicPr>
        <p:blipFill>
          <a:blip r:embed="rId31"/>
          <a:stretch/>
        </p:blipFill>
        <p:spPr>
          <a:xfrm>
            <a:off x="2241720" y="3940200"/>
            <a:ext cx="385560" cy="384120"/>
          </a:xfrm>
          <a:prstGeom prst="rect">
            <a:avLst/>
          </a:prstGeom>
          <a:ln w="0">
            <a:noFill/>
          </a:ln>
        </p:spPr>
      </p:pic>
      <p:pic>
        <p:nvPicPr>
          <p:cNvPr id="1114" name="矩形 52" descr=""/>
          <p:cNvPicPr/>
          <p:nvPr/>
        </p:nvPicPr>
        <p:blipFill>
          <a:blip r:embed="rId32"/>
          <a:stretch/>
        </p:blipFill>
        <p:spPr>
          <a:xfrm>
            <a:off x="1076400" y="4786200"/>
            <a:ext cx="385560" cy="385920"/>
          </a:xfrm>
          <a:prstGeom prst="rect">
            <a:avLst/>
          </a:prstGeom>
          <a:ln w="0">
            <a:noFill/>
          </a:ln>
        </p:spPr>
      </p:pic>
      <p:sp>
        <p:nvSpPr>
          <p:cNvPr id="1115" name="文本框 55"/>
          <p:cNvSpPr/>
          <p:nvPr/>
        </p:nvSpPr>
        <p:spPr>
          <a:xfrm>
            <a:off x="2486160" y="307332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56"/>
          <p:cNvSpPr/>
          <p:nvPr/>
        </p:nvSpPr>
        <p:spPr>
          <a:xfrm>
            <a:off x="5691240" y="309708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58"/>
          <p:cNvSpPr/>
          <p:nvPr/>
        </p:nvSpPr>
        <p:spPr>
          <a:xfrm>
            <a:off x="3755880" y="3854520"/>
            <a:ext cx="6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59"/>
          <p:cNvSpPr/>
          <p:nvPr/>
        </p:nvSpPr>
        <p:spPr>
          <a:xfrm>
            <a:off x="3763800" y="4722840"/>
            <a:ext cx="6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组合 2"/>
          <p:cNvGrpSpPr/>
          <p:nvPr/>
        </p:nvGrpSpPr>
        <p:grpSpPr>
          <a:xfrm>
            <a:off x="9360" y="108000"/>
            <a:ext cx="3245040" cy="527040"/>
            <a:chOff x="9360" y="108000"/>
            <a:chExt cx="3245040" cy="527040"/>
          </a:xfrm>
        </p:grpSpPr>
        <p:pic>
          <p:nvPicPr>
            <p:cNvPr id="11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9840" y="108000"/>
              <a:ext cx="3094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1" name="组合 4"/>
            <p:cNvGrpSpPr/>
            <p:nvPr/>
          </p:nvGrpSpPr>
          <p:grpSpPr>
            <a:xfrm>
              <a:off x="9360" y="203040"/>
              <a:ext cx="430200" cy="274680"/>
              <a:chOff x="9360" y="203040"/>
              <a:chExt cx="430200" cy="274680"/>
            </a:xfrm>
          </p:grpSpPr>
          <p:sp>
            <p:nvSpPr>
              <p:cNvPr id="1122" name="椭圆 11"/>
              <p:cNvSpPr/>
              <p:nvPr/>
            </p:nvSpPr>
            <p:spPr>
              <a:xfrm rot="16200000">
                <a:off x="252720" y="36792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520" y="33120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4" name="椭圆 29"/>
              <p:cNvSpPr/>
              <p:nvPr/>
            </p:nvSpPr>
            <p:spPr>
              <a:xfrm rot="16200000">
                <a:off x="252720" y="2408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520" y="21780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60" y="34740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60" y="31896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9360" y="23112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9360" y="20304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30" name="矩形 3" descr=""/>
          <p:cNvPicPr/>
          <p:nvPr/>
        </p:nvPicPr>
        <p:blipFill>
          <a:blip r:embed="rId8"/>
          <a:stretch/>
        </p:blipFill>
        <p:spPr>
          <a:xfrm>
            <a:off x="396720" y="812880"/>
            <a:ext cx="1968480" cy="733320"/>
          </a:xfrm>
          <a:prstGeom prst="rect">
            <a:avLst/>
          </a:prstGeom>
          <a:ln w="0">
            <a:noFill/>
          </a:ln>
        </p:spPr>
      </p:pic>
      <p:pic>
        <p:nvPicPr>
          <p:cNvPr id="1131" name="直接连接符 78" descr=""/>
          <p:cNvPicPr/>
          <p:nvPr/>
        </p:nvPicPr>
        <p:blipFill>
          <a:blip r:embed="rId9"/>
          <a:stretch/>
        </p:blipFill>
        <p:spPr>
          <a:xfrm>
            <a:off x="3936960" y="3095640"/>
            <a:ext cx="633600" cy="685800"/>
          </a:xfrm>
          <a:prstGeom prst="rect">
            <a:avLst/>
          </a:prstGeom>
          <a:ln w="0">
            <a:noFill/>
          </a:ln>
        </p:spPr>
      </p:pic>
      <p:pic>
        <p:nvPicPr>
          <p:cNvPr id="1132" name="直接连接符 77" descr=""/>
          <p:cNvPicPr/>
          <p:nvPr/>
        </p:nvPicPr>
        <p:blipFill>
          <a:blip r:embed="rId10"/>
          <a:stretch/>
        </p:blipFill>
        <p:spPr>
          <a:xfrm>
            <a:off x="3327480" y="3112920"/>
            <a:ext cx="631800" cy="684360"/>
          </a:xfrm>
          <a:prstGeom prst="rect">
            <a:avLst/>
          </a:prstGeom>
          <a:ln w="0">
            <a:noFill/>
          </a:ln>
        </p:spPr>
      </p:pic>
      <p:pic>
        <p:nvPicPr>
          <p:cNvPr id="1133" name="直接连接符 69" descr=""/>
          <p:cNvPicPr/>
          <p:nvPr/>
        </p:nvPicPr>
        <p:blipFill>
          <a:blip r:embed="rId11"/>
          <a:stretch/>
        </p:blipFill>
        <p:spPr>
          <a:xfrm>
            <a:off x="2092320" y="1965240"/>
            <a:ext cx="633240" cy="684360"/>
          </a:xfrm>
          <a:prstGeom prst="rect">
            <a:avLst/>
          </a:prstGeom>
          <a:ln w="0">
            <a:noFill/>
          </a:ln>
        </p:spPr>
      </p:pic>
      <p:pic>
        <p:nvPicPr>
          <p:cNvPr id="1134" name="直接连接符 68" descr=""/>
          <p:cNvPicPr/>
          <p:nvPr/>
        </p:nvPicPr>
        <p:blipFill>
          <a:blip r:embed="rId12"/>
          <a:stretch/>
        </p:blipFill>
        <p:spPr>
          <a:xfrm>
            <a:off x="2706840" y="1971720"/>
            <a:ext cx="633240" cy="684000"/>
          </a:xfrm>
          <a:prstGeom prst="rect">
            <a:avLst/>
          </a:prstGeom>
          <a:ln w="0">
            <a:noFill/>
          </a:ln>
        </p:spPr>
      </p:pic>
      <p:sp>
        <p:nvSpPr>
          <p:cNvPr id="1135" name="圆角矩形 61"/>
          <p:cNvSpPr/>
          <p:nvPr/>
        </p:nvSpPr>
        <p:spPr>
          <a:xfrm>
            <a:off x="2452680" y="147780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fafc02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圆角矩形 62"/>
          <p:cNvSpPr/>
          <p:nvPr/>
        </p:nvSpPr>
        <p:spPr>
          <a:xfrm>
            <a:off x="1860480" y="2619360"/>
            <a:ext cx="504720" cy="504720"/>
          </a:xfrm>
          <a:prstGeom prst="roundRect">
            <a:avLst>
              <a:gd name="adj" fmla="val 16667"/>
            </a:avLst>
          </a:prstGeom>
          <a:solidFill>
            <a:srgbClr val="07f70d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圆角矩形 64"/>
          <p:cNvSpPr/>
          <p:nvPr/>
        </p:nvSpPr>
        <p:spPr>
          <a:xfrm>
            <a:off x="3073320" y="26384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直接连接符 70" descr=""/>
          <p:cNvPicPr/>
          <p:nvPr/>
        </p:nvPicPr>
        <p:blipFill>
          <a:blip r:embed="rId13"/>
          <a:stretch/>
        </p:blipFill>
        <p:spPr>
          <a:xfrm>
            <a:off x="4495680" y="1976400"/>
            <a:ext cx="633600" cy="684360"/>
          </a:xfrm>
          <a:prstGeom prst="rect">
            <a:avLst/>
          </a:prstGeom>
          <a:ln w="0">
            <a:noFill/>
          </a:ln>
        </p:spPr>
      </p:pic>
      <p:pic>
        <p:nvPicPr>
          <p:cNvPr id="1139" name="直接连接符 73" descr=""/>
          <p:cNvPicPr/>
          <p:nvPr/>
        </p:nvPicPr>
        <p:blipFill>
          <a:blip r:embed="rId14"/>
          <a:stretch/>
        </p:blipFill>
        <p:spPr>
          <a:xfrm>
            <a:off x="5111640" y="1984320"/>
            <a:ext cx="631800" cy="684360"/>
          </a:xfrm>
          <a:prstGeom prst="rect">
            <a:avLst/>
          </a:prstGeom>
          <a:ln w="0">
            <a:noFill/>
          </a:ln>
        </p:spPr>
      </p:pic>
      <p:sp>
        <p:nvSpPr>
          <p:cNvPr id="1140" name="圆角矩形 74"/>
          <p:cNvSpPr/>
          <p:nvPr/>
        </p:nvSpPr>
        <p:spPr>
          <a:xfrm>
            <a:off x="4857840" y="14889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fc02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圆角矩形 75"/>
          <p:cNvSpPr/>
          <p:nvPr/>
        </p:nvSpPr>
        <p:spPr>
          <a:xfrm>
            <a:off x="4265640" y="26319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07f70d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圆角矩形 76"/>
          <p:cNvSpPr/>
          <p:nvPr/>
        </p:nvSpPr>
        <p:spPr>
          <a:xfrm>
            <a:off x="5477040" y="2651040"/>
            <a:ext cx="502920" cy="5032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3280"/>
              <a:gd name="textAreaBottom" fmla="*/ 478800 h 5032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圆角矩形 79"/>
          <p:cNvSpPr/>
          <p:nvPr/>
        </p:nvSpPr>
        <p:spPr>
          <a:xfrm>
            <a:off x="3683160" y="3768840"/>
            <a:ext cx="502920" cy="50472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0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82"/>
          <p:cNvSpPr/>
          <p:nvPr/>
        </p:nvSpPr>
        <p:spPr>
          <a:xfrm>
            <a:off x="2365200" y="146376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7:4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